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wmf" ContentType="image/x-wmf"/>
  <Override PartName="/ppt/media/image24.jpeg" ContentType="image/jpeg"/>
  <Override PartName="/ppt/media/image18.png" ContentType="image/png"/>
  <Override PartName="/ppt/media/image6.jpeg" ContentType="image/jpeg"/>
  <Override PartName="/ppt/media/image8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5.png" ContentType="image/png"/>
  <Override PartName="/ppt/media/image31.png" ContentType="image/png"/>
  <Override PartName="/ppt/media/image34.png" ContentType="image/png"/>
  <Override PartName="/ppt/media/image22.jpeg" ContentType="image/jpeg"/>
  <Override PartName="/ppt/media/image9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35.gif" ContentType="image/gif"/>
  <Override PartName="/ppt/media/image15.jpeg" ContentType="image/jpe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0074-9835-4946-B173-0EBA6E778B9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ергей Тимофеевич Акс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«Аленький цветочек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51C8-2B51-4795-8804-B32BA80E7E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D0C4-5049-4E1F-A678-C2A29DE6CE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ка сюжетных ли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Аленький цветоч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Щелкун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главной героини к геро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любовью главные героини снимают закл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ни за внешним уродством смогли рассмотреть щедрость и доброту души чуди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аст красивого и ужас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8870-7B22-4E20-851C-C598C0C5BC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лина Народных сказ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явно чувствуется народное происхож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те первые строчки сказок «Аленький цветочек» и «Щелкунчик и Мышиный Король». Сравни язык, которым написаны ска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из сказок больше напоминает народну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B320-7801-4ACF-80B4-DD95E15614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лшебный остр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2AE1-3A4E-4A77-803C-032473003C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похожи все волшебные сказ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из сказок контраст между реальным и волшебным миром ярче: где реальный мир реальнее, а волшебный мир волшебне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народных сказках ярко выражен контраст между волшебным миром и земным мир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композиция вам кажется более замысловат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характеры героев представляются вам более слож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A000-F3E9-4AD6-9CD5-3880A01FF4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ее сложные характеры героев в авторской сказке, а в народной сказке герои характеризуются сразу и делятся на положительных и отриц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6DA0-9E0C-44B2-B749-475D9EEA11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ясь к этому уро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книгу новую проч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орошей, доброй, мудрой сказ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аром время пров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2BE6-4364-47DF-862F-8713A102EC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зка ложь, да в неё намёк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рым молодцам ур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5085-02C4-468A-A28F-F71C5A8F35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равляемся в 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39B8-3173-4005-A727-B18BE627A5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о «Авторск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B7AD-7F29-4499-B140-A7F75C8291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аков Сергей тимофеевич (1791-185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4C43-06F7-45B7-B1ED-C172493528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зку «Аленький цветочек» записал известный русский писатель Сергей Тимофеевич Аксаков (1791–1859). Он услышал ее в детстве во время своей болезни. Писатель так рассказывает об этом в повести «Детские годы Багрова-вну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корому выздоровлению моему мешала бессонница… По совету тетушки, позвали один раз ключницу Пелагею, которая была великая мастерица сказывать сказки и которую даже покойный дедушка любил слушать… Пришла Пелагея, немолодая, но еще белая, румяная… села у печки и начала говорить, немного нараспев: „В некиим царстве, в некиим государстве…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ли говорить, что я не заснул до окончания сказки, что, напротив, я не спал долее обыкновен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ругой же день выслушал я в другой раз повесть об „Аленьком цветочке“. С этих пор, до самого моего выздоровления, Пелагея ежедневно рассказывала мне какую-нибудь из своих многочисленных сказок. Более других помню я „Царь-девицу“, „Иванушку-дурачка“, „Жар-птицу“ и „Змея Горыныча“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ие годы жизни, работая над книгой «Детские годы Багрова-внука», Сергей Тимофеевич вспомнил ключницу Пелагею, ее замечательную сказку «Аленький цветочек» и записал ее по памяти. Впервые она была напечатана в 1858 году и с тех пор стала у нас любимой сказ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8B91-4D68-496B-9F45-EFE15786F6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 «Внимательных чита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ует ли название сказки «Аленький цветочек» её содержанию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у этой сказки такой подзаголовок – «Сказка ключницы Пелаге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дочерей было у купц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собирался уезжать купе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ём он спрашивал своих дочер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одарки заказали ему доче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купец нашёл аленький цвет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лучилось, когда он сорвал цв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чудище поверило купцу и отпустило его домой проститься с дочерь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вы себе представляете аленький цвет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зошл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заканчивается сказ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DE0C-68EE-48E6-92BA-6051D6FDB7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B573-FC03-4EA4-92C1-A3D05EEC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0A8-8D25-4BC6-96E1-155D40E6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89752-9195-40C4-8B6C-EC9E3DCE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2E3DB-B0B3-4177-B6F7-3CFA6BAD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0EF83-9152-46F0-8083-21C89F43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1C1A0-61A2-43A6-878F-786E4B67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6FAF8-D1D9-4B5F-B58F-2A188FE1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9F331-A141-47BA-98D1-F15F5EBC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CD624-DAF7-4BA4-BD3B-398F907F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3DA50-2C4B-42B0-80DF-3974719D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91604-B29B-460B-B19C-59A985C8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75A-49E0-4B91-9A18-42E3F348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32CE-F3FB-4ABB-BB5F-4627776E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6CAD-7044-4AA7-91D7-337A626B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1B70-D3F6-408B-B4FE-911B9FA3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8639-494A-47C8-A78A-A27DF2E0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5566-2723-4E37-8F32-8A88DAE5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8CB9-0ABA-4130-9034-48BA9BC1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6402-1110-4AC5-B1A0-74EAA046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6164-7F88-4723-A9C4-EA348F8C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FBE-979C-44CA-928F-F815391B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2632-74F9-4A63-ADED-8095FA2C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9671-B9D1-4C84-8C07-F28D2CFA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41E7-E1DB-4D82-B381-E6756DAF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26E3-B1B7-4010-919C-6B84B480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9675-F313-43B2-AB54-7498F448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6073A-ED6D-474B-BBAF-F3143CF7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D5A2D-51E1-42A0-8332-827EAB9D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D7280-58DF-46E5-96D7-61D922E7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0BC38-69F7-4860-91B6-41B0C637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5616F-1D6C-47DF-B844-21CABDE8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2EC-CAC9-434D-8F22-D81AFBAD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D9390-B170-4427-9D41-1F3696C9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7602F-AFAE-450B-B938-39DA1075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D7F34-B50B-4099-98F1-31ABC62C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3EC7B-2CCE-4388-A195-49826504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60794-9194-4C2F-B694-F994AF5C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23F31-A765-48A9-A09D-06D61C62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BA24F-B616-452E-8063-B91D61DA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325AB-4367-48C8-8519-6B86411A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D6060-DB4F-450B-91F4-E5D613CD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D3805-B3C5-4BC5-8EF1-8D881E42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CAC-7A54-4D96-A4E3-C4AF3E15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54EA3-35D9-4912-85AB-609D1714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F3CD5-6B66-48C9-9806-B8315EE4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B35D5-904C-49C7-9F27-94C2596F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7F6FF-9AAA-488C-BD16-1650A63F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208AA-215E-4539-8D75-A2E1E833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B9B23-970E-4386-A998-2E4B9941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681C3-E320-414F-9ADD-79281243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8173E-DA32-4470-B92D-D63BECD3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44153-6882-4411-B985-A88FB3F5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7BB7A-D99A-4387-A905-9A00BAE3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3AC-444A-4457-8281-A2D0E5A4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ED708-F7F5-474B-B067-C61AF8AB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9E810-D761-49B4-B1EB-CE56E40E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07CFF-31D5-46F3-9D19-BDF9B5D7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4CBAA-D2ED-4AF3-960B-A4798141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489E5-6D8B-468B-878B-13CDCB0D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EA12C-F1D5-42B0-A45B-325C972E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C6FEF-AC1D-4994-B719-BB671B09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79E60-9530-44A0-8C57-60404E25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C47CC-8296-43F8-84B7-DCAEB02D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7EBEE-EFA6-4F73-B1C6-4E9CF834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1B7-4BB0-4B15-B647-0BC96B85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66676-63A2-4A84-8D1F-66B9404C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AD1C5-C1A7-4065-9496-DCB6EA1D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38748-31C1-4888-ABA1-57133D27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349DE-C880-414A-9367-83424FD7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F4882-5362-49C6-8107-82B5695C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6E391-BC7E-46E3-81FF-BA96B625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5B541-5F83-4902-B8E2-C2EF2CD9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52A67-7EF1-484D-B4D5-4F8A8D11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80F00-4CD3-4EAD-86FB-845502BF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82E4B-35B8-43FD-9C87-19525683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3EF6-0634-48F4-9EF3-9476581B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E02B1-A8B0-4495-AD1D-398FD286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12892-990B-4C8A-B31B-4F7C0ACF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0D5CA-6B21-4DA6-A6E1-A9E263F3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6C2EB-BFA5-4124-84A6-535865E4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E33EB-BA1B-46BC-92B5-C94B3D45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E9D2C-36C3-40BA-A13B-F6476A03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92166-445E-4E0B-9872-4814DDD1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B6CBC-5EC5-4C29-A0B3-16ED8346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A6670-5A92-436C-B36B-E045B852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DA5A9-0932-40DF-A488-0BAC2A62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19D-61D1-4541-864D-B788E1DB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072F8-5E25-4953-BC7A-9786C98C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6145C-389C-4985-8369-05E9E33A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2D638-0035-448B-A874-8945A670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A046E-2931-473F-AEFC-16EA1A7C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DA638-667D-449A-B167-63148EBA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003A7-E01E-4B06-90C3-C34397A4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12F74-0047-4AE0-A8B8-429D419E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35AA0-AF27-4A5F-B901-555A8A58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78EB4-D650-4CEC-9F47-656AEF4E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24833-8B52-4504-B297-10EF5FF4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585-9316-4EA5-8DB1-7C198324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180D6-089E-488E-A63D-56675200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25190-493D-47A2-8EA9-6971960A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DDDBF-5A94-4FBB-B031-32D007C0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8D059-56EF-4C1E-891D-BC6C4F50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D8A5A-50EA-4256-AE90-D1F58C37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33937-468C-413C-80D4-879FF967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CEA11-D6B1-4865-BA4E-AD7482C9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347E0-1317-4589-8C25-996621A1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84077-562A-4279-B4E4-40D8ADFE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266FA-BACE-4A4E-B254-B7627F26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9FE8-6D71-4966-B2CB-99E4222F47C4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8CA4-025A-4D8F-8FBC-6CACCB5013A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ACB4-BB67-485F-803E-78A414A6342D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FF3D-51E9-4D19-97DF-42B8AE4E7ED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951D-7924-49C2-9B5D-E6A67F5534F2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0502-283F-41FF-B6DB-B59CF2EC9B2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B99D-DCDD-4960-930F-DD609E892B5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32F8-EBDD-447A-B970-315D6216C9A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C44E-AF94-48EB-A978-98C28A89ADE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2B48-14C2-4C66-B35F-2CBFFAC3E3B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005A-3F0C-4EFC-8837-7D988CAB520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56D7-23AD-4C76-A49E-308099F3B02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406C-55C0-4E10-A10E-93F95B47CDB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BE92-C33C-42DC-9D23-50AECB0A4E3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13C2-72D4-4F7E-B41A-DC76924349A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A24A-EB73-40F7-9230-44F9E92470D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4F70-164C-4E38-BC5E-7656D67DDDB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B6B7-0FC1-4CD2-A8EA-2318C5EED1A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go.mail.ru/frame.html?&amp;imgurl=http://img1.liveinternet.ru/images/attach/c/0/34/373/34373967_vraschayusch_roza_anime.gif&amp;pageurl=http://glausq.ru/41.php&amp;id=83047487&amp;iid=3&amp;imgwidth=400&amp;imgheight=300&amp;imgsize=9744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0" y="4668840"/>
            <a:ext cx="8839080" cy="25606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Franklin Gothic Book"/>
              </a:rPr>
              <a:t>«Аленький цветочек»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http://im3-tub.mail.ru/i?id=83047487&amp;tov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15040" y="714240"/>
            <a:ext cx="2190600" cy="228600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262080" y="639720"/>
            <a:ext cx="8881920" cy="1000080"/>
          </a:xfrm>
          <a:prstGeom prst="rect">
            <a:avLst/>
          </a:prstGeom>
          <a:ln w="0">
            <a:noFill/>
          </a:ln>
        </p:spPr>
      </p:pic>
      <p:pic>
        <p:nvPicPr>
          <p:cNvPr id="445" name="MSSN1321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C:\Documents and Settings\Admin\Local Settings\Temporary Internet Files\Content.IE5\19W7V82E\MCj04298030000[1].wmf"/>
          <p:cNvPicPr/>
          <p:nvPr/>
        </p:nvPicPr>
        <p:blipFill>
          <a:blip r:embed="rId3"/>
          <a:stretch/>
        </p:blipFill>
        <p:spPr>
          <a:xfrm>
            <a:off x="1500120" y="2000160"/>
            <a:ext cx="3643560" cy="400068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7" descr=""/>
          <p:cNvPicPr/>
          <p:nvPr/>
        </p:nvPicPr>
        <p:blipFill>
          <a:blip r:embed="rId4"/>
          <a:stretch/>
        </p:blipFill>
        <p:spPr>
          <a:xfrm>
            <a:off x="208080" y="2786040"/>
            <a:ext cx="9661320" cy="1541520"/>
          </a:xfrm>
          <a:prstGeom prst="rect">
            <a:avLst/>
          </a:prstGeom>
          <a:ln w="0">
            <a:noFill/>
          </a:ln>
        </p:spPr>
      </p:pic>
      <p:pic>
        <p:nvPicPr>
          <p:cNvPr id="448" name="j0211321.wav" descr=""/>
          <p:cNvPicPr/>
          <p:nvPr/>
        </p:nvPicPr>
        <p:blipFill>
          <a:blip r:embed="rId5"/>
          <a:stretch/>
        </p:blipFill>
        <p:spPr>
          <a:xfrm>
            <a:off x="0" y="64292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15649" fill="hold"/>
                                        <p:tgtEl>
                                          <p:spTgt spid="4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«Аленький цветочек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«Щелкунчик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Любовь главной героини к герою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воей любовью главные героини снимают заклятие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Героини за внешним уродством смогли рассмотреть щедрость и доброту души чудищ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Контраст красивого и ужасного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кой сказке явно чувствуется народное происхождени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читайте первые строчки сказок «Аленький цветочек» и «Щелкунчик и Мышиный Король». Сравни язык, которым написаны сказ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ая из сказок больше напоминает народную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5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4" descr="43ZJ3CAWDNY0BCAS0YUVRCA4YGWV4CA67E15CCA21C0CQCAKWG4CHCAEUXXJJCA804UEKCAH9Z5LVCAHS04SXCA9DT21YCA1P4QE8CA57L6LZCASX1KKTCAW7HO5QCA6M5ESZCAV3CIE3CA1ZKHRCCA1HT9EZ.jpg"/>
          <p:cNvPicPr/>
          <p:nvPr/>
        </p:nvPicPr>
        <p:blipFill>
          <a:blip r:embed="rId2"/>
          <a:stretch/>
        </p:blipFill>
        <p:spPr>
          <a:xfrm>
            <a:off x="1365120" y="1725480"/>
            <a:ext cx="3340080" cy="3407040"/>
          </a:xfrm>
          <a:prstGeom prst="rect">
            <a:avLst/>
          </a:prstGeom>
          <a:ln w="0">
            <a:noFill/>
          </a:ln>
        </p:spPr>
      </p:pic>
      <p:pic>
        <p:nvPicPr>
          <p:cNvPr id="458" name="Содержимое 6" descr="HM69HCAA6RBQCCAMB6S14CAJ3M4GACA299LJ1CAJYOGT9CA92OKQ8CATJ4IX1CA72TXH8CA6RWZKDCA2H0YAXCAQWVVOECAVYZEL4CAM7DBQMCAYU0UJWCAOH1QQTCAS0FZX5CAKCB2SACA046Q5ECAEUT19S.jpg"/>
          <p:cNvPicPr/>
          <p:nvPr/>
        </p:nvPicPr>
        <p:blipFill>
          <a:blip r:embed="rId3"/>
          <a:stretch/>
        </p:blipFill>
        <p:spPr>
          <a:xfrm>
            <a:off x="7070760" y="1500120"/>
            <a:ext cx="1255680" cy="1273320"/>
          </a:xfrm>
          <a:prstGeom prst="rect">
            <a:avLst/>
          </a:prstGeom>
          <a:ln w="0">
            <a:noFill/>
          </a:ln>
        </p:spPr>
      </p:pic>
      <p:sp>
        <p:nvSpPr>
          <p:cNvPr id="45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Чем похожи все волшебные сказк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из сказок контраст между реальным и волшебным миром ярче: где реальный мир реальнее, а волшебный мир волшебнее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А в народных сказках ярко выражен контраст между волшебным миром и земным миром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сказке композиция вам кажется более замысловатой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характеры героев представляются вам более сложным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6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1"/>
          <a:stretch/>
        </p:blipFill>
        <p:spPr>
          <a:xfrm>
            <a:off x="262080" y="426960"/>
            <a:ext cx="8881920" cy="1000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Более сложные характеры героев в авторской сказке, а в народной сказке герои характеризуются сразу и делятся на положительных и отрицательны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8" dur="2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67" name="Picture 2" descr="C:\Documents and Settings\Admin\Рабочий стол\j0236359.gif"/>
          <p:cNvPicPr/>
          <p:nvPr/>
        </p:nvPicPr>
        <p:blipFill>
          <a:blip r:embed="rId1"/>
          <a:stretch/>
        </p:blipFill>
        <p:spPr>
          <a:xfrm>
            <a:off x="3071880" y="2857680"/>
            <a:ext cx="2714400" cy="2071440"/>
          </a:xfrm>
          <a:prstGeom prst="rect">
            <a:avLst/>
          </a:prstGeom>
          <a:ln w="0">
            <a:noFill/>
          </a:ln>
        </p:spPr>
      </p:pic>
      <p:pic>
        <p:nvPicPr>
          <p:cNvPr id="468" name="j021136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4745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товясь к этому уроку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 книгу новую проч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 хорошей, доброй, мудрой сказк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даром время прове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7" descr="C:\Documents and Settings\Admin\Local Settings\Temporary Internet Files\Content.IE5\T9QFS9SQ\MCj04404240000[1].wmf"/>
          <p:cNvPicPr/>
          <p:nvPr/>
        </p:nvPicPr>
        <p:blipFill>
          <a:blip r:embed="rId1"/>
          <a:stretch/>
        </p:blipFill>
        <p:spPr>
          <a:xfrm>
            <a:off x="714240" y="4286160"/>
            <a:ext cx="1827360" cy="1506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C:\Documents and Settings\Admin\Local Settings\Temporary Internet Files\Content.IE5\19W7V82E\MCj04379900000[1].wmf"/>
          <p:cNvPicPr/>
          <p:nvPr/>
        </p:nvPicPr>
        <p:blipFill>
          <a:blip r:embed="rId2"/>
          <a:stretch/>
        </p:blipFill>
        <p:spPr>
          <a:xfrm>
            <a:off x="5857920" y="4000680"/>
            <a:ext cx="1816200" cy="17301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Сказка ложь, да в неё намёк!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Добрым молодцам урок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.С. Пушки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5" descr="C:\Documents and Settings\Admin\Local Settings\Temporary Internet Files\Content.IE5\02068134\MCj04334800000[1].wmf"/>
          <p:cNvPicPr/>
          <p:nvPr/>
        </p:nvPicPr>
        <p:blipFill>
          <a:blip r:embed="rId2"/>
          <a:stretch/>
        </p:blipFill>
        <p:spPr>
          <a:xfrm>
            <a:off x="1643040" y="4071960"/>
            <a:ext cx="1789200" cy="182736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cuments and Settings\Admin\Local Settings\Temporary Internet Files\Content.IE5\0K7B91OP\MCj03981430000[1].wmf"/>
          <p:cNvPicPr/>
          <p:nvPr/>
        </p:nvPicPr>
        <p:blipFill>
          <a:blip r:embed="rId2"/>
          <a:stretch/>
        </p:blipFill>
        <p:spPr>
          <a:xfrm>
            <a:off x="3000240" y="2286000"/>
            <a:ext cx="2500560" cy="271476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3" name="Содержимое 3" descr="ill12.jpg"/>
          <p:cNvPicPr/>
          <p:nvPr/>
        </p:nvPicPr>
        <p:blipFill>
          <a:blip r:embed="rId1"/>
          <a:stretch/>
        </p:blipFill>
        <p:spPr>
          <a:xfrm>
            <a:off x="0" y="0"/>
            <a:ext cx="3200400" cy="411480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4" descr="ill09.jpg"/>
          <p:cNvPicPr/>
          <p:nvPr/>
        </p:nvPicPr>
        <p:blipFill>
          <a:blip r:embed="rId2"/>
          <a:stretch/>
        </p:blipFill>
        <p:spPr>
          <a:xfrm>
            <a:off x="3357720" y="0"/>
            <a:ext cx="2761920" cy="4572000"/>
          </a:xfrm>
          <a:prstGeom prst="rect">
            <a:avLst/>
          </a:prstGeom>
          <a:ln w="0">
            <a:noFill/>
          </a:ln>
        </p:spPr>
      </p:pic>
      <p:pic>
        <p:nvPicPr>
          <p:cNvPr id="425" name="Содержимое 5" descr="ill13.jpg"/>
          <p:cNvPicPr/>
          <p:nvPr/>
        </p:nvPicPr>
        <p:blipFill>
          <a:blip r:embed="rId3"/>
          <a:stretch/>
        </p:blipFill>
        <p:spPr>
          <a:xfrm>
            <a:off x="6062760" y="0"/>
            <a:ext cx="3081240" cy="4114800"/>
          </a:xfrm>
          <a:prstGeom prst="rect">
            <a:avLst/>
          </a:prstGeom>
          <a:ln w="0">
            <a:noFill/>
          </a:ln>
        </p:spPr>
      </p:pic>
      <p:pic>
        <p:nvPicPr>
          <p:cNvPr id="426" name="Содержимое 7" descr="ill04.jpg"/>
          <p:cNvPicPr/>
          <p:nvPr/>
        </p:nvPicPr>
        <p:blipFill>
          <a:blip r:embed="rId4"/>
          <a:stretch/>
        </p:blipFill>
        <p:spPr>
          <a:xfrm>
            <a:off x="1712880" y="3998880"/>
            <a:ext cx="4827600" cy="2719440"/>
          </a:xfrm>
          <a:prstGeom prst="rect">
            <a:avLst/>
          </a:prstGeom>
          <a:ln w="0">
            <a:noFill/>
          </a:ln>
        </p:spPr>
      </p:pic>
      <p:pic>
        <p:nvPicPr>
          <p:cNvPr id="427" name="61._Act_3._Aurore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23689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430" name="Содержимое 3" descr="50s.jpg"/>
          <p:cNvPicPr/>
          <p:nvPr/>
        </p:nvPicPr>
        <p:blipFill>
          <a:blip r:embed="rId2"/>
          <a:stretch/>
        </p:blipFill>
        <p:spPr>
          <a:xfrm>
            <a:off x="4000680" y="2000160"/>
            <a:ext cx="1857240" cy="264816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4" descr="BNRI5CAYAQ6PCCAPKPAA6CA7C5USWCA5RB0N2CAOLN5NYCAR267AWCAS5VFZDCAGV312CCAXYKSRCCA5UL726CA7XZPH5CA4TJ2GKCA0Y4UIKCAYPA16JCAMVH6L7CAKCPOWWCAWCHGEVCA14LRSICAVLKDFS.jpg"/>
          <p:cNvPicPr/>
          <p:nvPr/>
        </p:nvPicPr>
        <p:blipFill>
          <a:blip r:embed="rId3"/>
          <a:stretch/>
        </p:blipFill>
        <p:spPr>
          <a:xfrm>
            <a:off x="785880" y="1143000"/>
            <a:ext cx="1577880" cy="200016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5" descr="YQZDYCAN419L0CAVYC2E5CAD0POT9CA0ERCRBCAADOASLCAR2HCIQCALJ552MCA55C1KZCALGTE6ACAI04RRVCA2LG696CA58J4SWCAQD7A44CA3C5QG7CAKTB795CAP1VQ8HCAJNHCIKCA01UAHYCA1MTHGY.jpg"/>
          <p:cNvPicPr/>
          <p:nvPr/>
        </p:nvPicPr>
        <p:blipFill>
          <a:blip r:embed="rId4"/>
          <a:stretch/>
        </p:blipFill>
        <p:spPr>
          <a:xfrm>
            <a:off x="6572160" y="1357200"/>
            <a:ext cx="2000520" cy="264348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6" descr="HCWQCCA5G9MFOCA953K5PCAE0892DCALCNYZUCAQCYYZ9CACIC7OQCALBAM5ZCAMFE3NNCAB3NID7CAZ0ENYMCAXC6ZVVCAQCQJ9LCAV8RUFNCAOHIRTFCA1SJFZDCA8PXPWFCA80UGURCAN6HZ7YCAYZKYV5.jpg"/>
          <p:cNvPicPr/>
          <p:nvPr/>
        </p:nvPicPr>
        <p:blipFill>
          <a:blip r:embed="rId5"/>
          <a:stretch/>
        </p:blipFill>
        <p:spPr>
          <a:xfrm>
            <a:off x="785880" y="3643200"/>
            <a:ext cx="2149560" cy="221796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pic>
        <p:nvPicPr>
          <p:cNvPr id="436" name="Содержимое 7" descr="0123-065.jpg"/>
          <p:cNvPicPr/>
          <p:nvPr/>
        </p:nvPicPr>
        <p:blipFill>
          <a:blip r:embed="rId2"/>
          <a:stretch/>
        </p:blipFill>
        <p:spPr>
          <a:xfrm>
            <a:off x="2898720" y="1554120"/>
            <a:ext cx="3498840" cy="452592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Сказку «Аленький цветочек» записал известный русский писатель Сергей Тимофеевич Аксаков (1791–1859). Он услышал ее в детстве во время своей болезни. Писатель так рассказывает об этом в повести «Детские годы Багрова-внука»: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«Скорому выздоровлению моему мешала бессонница… По совету тетушки, позвали один раз ключницу Пелагею, которая была великая мастерица сказывать сказки и которую даже покойный дедушка любил слушать… Пришла Пелагея, немолодая, но еще белая, румяная… села у печки и начала говорить, немного нараспев: „В некиим царстве, в некиим государстве…“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Нужно ли говорить, что я не заснул до окончания сказки, что, напротив, я не спал долее обыкновенного?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На другой же день выслушал я в другой раз повесть об „Аленьком цветочке“. С этих пор, до самого моего выздоровления, Пелагея ежедневно рассказывала мне какую-нибудь из своих многочисленных сказок. Более других помню я „Царь-девицу“, „Иванушку-дурачка“, „Жар-птицу“ и „Змея Горыныча“»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В последние годы жизни, работая над книгой «Детские годы Багрова-внука», Сергей Тимофеевич вспомнил ключницу Пелагею, ее замечательную сказку «Аленький цветочек» и записал ее по памяти. Впервые она была напечатана в 1858 году и с тех пор стала у нас любимой сказкой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оответствует ли название сказки «Аленький цветочек» её содержанию? Почему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чему у этой сказки такой подзаголовок – «Сказка ключницы Пелагеи»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колько дочерей было у купц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уда собирался уезжать купец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 чём он спрашивал своих дочерей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ие подарки заказали ему дочери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 купец нашёл аленький цветоче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то случилось, когда он сорвал цвето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чему чудище поверило купцу и отпустило его домой проститься с дочерьми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им вы себе представляете аленький цветоче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то произошло дальше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м заканчивается сказк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9:53:01Z</dcterms:created>
  <dc:creator>КомпМастер</dc:creator>
  <dc:description/>
  <dc:language>en-US</dc:language>
  <cp:lastModifiedBy>LEGION</cp:lastModifiedBy>
  <dcterms:modified xsi:type="dcterms:W3CDTF">2015-01-20T11:49:15Z</dcterms:modified>
  <cp:revision>31</cp:revision>
  <dc:subject/>
  <dc:title>Сергей Тимофеевич Аксаков</dc:title>
</cp:coreProperties>
</file>